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8DE-0D3A-4348-BF23-8CBA8E61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950-E02E-46F9-8A2D-1855959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284-E3AA-47CD-A1C6-1A321D35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A85-2A1F-4664-BD56-1C9EA6F4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684-56D5-4A3E-8D97-7A0FD0CF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893-7542-4D59-BE17-6D5F9AE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FF2-27C9-4245-9006-276EB75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4B3-09FE-4969-B34E-A88CF4FF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66E-E36B-42A1-8FB8-25314F40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6CB-D9AE-4632-9A35-45B8893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938-11AF-478E-846C-482E01C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34C-0C04-4311-BA71-F6A867C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75A7-D0ED-444D-A093-311EF21AC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Genomic%20&amp;%20Phenotypic%20%20Data%20Analysis.html" TargetMode="External"/><Relationship Id="rId5" Type="http://schemas.openxmlformats.org/officeDocument/2006/relationships/hyperlink" Target="file:///../../../Protege/html%20files/Image%20Processing.html" TargetMode="External"/><Relationship Id="rId6" Type="http://schemas.openxmlformats.org/officeDocument/2006/relationships/hyperlink" Target="file:///../../../Protege/html%20files/Image%20Processing.html#direct_instances" TargetMode="External"/><Relationship Id="rId7" Type="http://schemas.openxmlformats.org/officeDocument/2006/relationships/hyperlink" Target="file:///../../../Protege/html%20files/Network%20characterization.html" TargetMode="External"/><Relationship Id="rId8" Type="http://schemas.openxmlformats.org/officeDocument/2006/relationships/hyperlink" Target="file:///../../../Protege/html%20files/Pre-Processing.html" TargetMode="External"/><Relationship Id="rId9" Type="http://schemas.openxmlformats.org/officeDocument/2006/relationships/hyperlink" Target="file:///../../../Protege/html%20files/Regulatory_Signaling%20network%20reconstruction.html" TargetMode="External"/><Relationship Id="rId10" Type="http://schemas.openxmlformats.org/officeDocument/2006/relationships/hyperlink" Target="file:///../../../Protege/html%20files/Sequence%20Annotation.html" TargetMode="External"/><Relationship Id="rId11" Type="http://schemas.openxmlformats.org/officeDocument/2006/relationships/hyperlink" Target="file:///../../../Protege/html%20files/Simulation.html" TargetMode="External"/><Relationship Id="rId12" Type="http://schemas.openxmlformats.org/officeDocument/2006/relationships/hyperlink" Target="file:///../../../Protege/html%20files/Software%20Engineering%20and%20Development%20Tools.html" TargetMode="External"/><Relationship Id="rId13" Type="http://schemas.openxmlformats.org/officeDocument/2006/relationships/hyperlink" Target="file:///../../../Protege/html%20files/Statistical%20Analysis.html" TargetMode="External"/><Relationship Id="rId14" Type="http://schemas.openxmlformats.org/officeDocument/2006/relationships/hyperlink" Target="file:///../../../Protege/html%20files/Structure-based%20protein%20classification.html" TargetMode="External"/><Relationship Id="rId15" Type="http://schemas.openxmlformats.org/officeDocument/2006/relationships/hyperlink" Target="file:///../../../Protege/html%20files/Toolkits.html" TargetMode="External"/><Relationship Id="rId16" Type="http://schemas.openxmlformats.org/officeDocument/2006/relationships/hyperlink" Target="file:///../../../Protege/html%20files/Toolkits.html#direct_instances" TargetMode="External"/><Relationship Id="rId17" Type="http://schemas.openxmlformats.org/officeDocument/2006/relationships/hyperlink" Target="file:///../../../Protege/html%20files/User%20and%20developer%20documentation.html" TargetMode="External"/><Relationship Id="rId18" Type="http://schemas.openxmlformats.org/officeDocument/2006/relationships/hyperlink" Target="file:///../../../Protege/html%20files/Visualization.html" TargetMode="External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Shape%20Analysis.html" TargetMode="External"/><Relationship Id="rId5" Type="http://schemas.openxmlformats.org/officeDocument/2006/relationships/hyperlink" Target="file:///../../../Protege/html%20files/Pattern%20Recognition.html" TargetMode="External"/><Relationship Id="rId6" Type="http://schemas.openxmlformats.org/officeDocument/2006/relationships/hyperlink" Target="file:///../../../Protege/html%20files/Genomic%20&amp;%20Phenotypic%20%20Data%20Analysis.html" TargetMode="External"/><Relationship Id="rId7" Type="http://schemas.openxmlformats.org/officeDocument/2006/relationships/hyperlink" Target="file:///../../../Protege/html%20files/Image%20Processing.html" TargetMode="External"/><Relationship Id="rId8" Type="http://schemas.openxmlformats.org/officeDocument/2006/relationships/hyperlink" Target="file:///../../../Protege/html%20files/Image%20Processing.html#direct_instances" TargetMode="External"/><Relationship Id="rId9" Type="http://schemas.openxmlformats.org/officeDocument/2006/relationships/hyperlink" Target="file:///../../../Protege/html%20files/Atlas%20Generation.html" TargetMode="External"/><Relationship Id="rId10" Type="http://schemas.openxmlformats.org/officeDocument/2006/relationships/hyperlink" Target="file:///../../../Protege/html%20files/Cortical%20Modeling.html" TargetMode="External"/><Relationship Id="rId11" Type="http://schemas.openxmlformats.org/officeDocument/2006/relationships/hyperlink" Target="file:///../../../Protege/html%20files/Registration.html" TargetMode="External"/><Relationship Id="rId12" Type="http://schemas.openxmlformats.org/officeDocument/2006/relationships/hyperlink" Target="file:///../../../Protege/html%20files/Segmentation.html" TargetMode="External"/><Relationship Id="rId13" Type="http://schemas.openxmlformats.org/officeDocument/2006/relationships/hyperlink" Target="file:///../../../Protege/html%20files/Network%20characterization.html" TargetMode="External"/><Relationship Id="rId14" Type="http://schemas.openxmlformats.org/officeDocument/2006/relationships/hyperlink" Target="file:///../../../Protege/html%20files/Pre-Processing.html" TargetMode="External"/><Relationship Id="rId15" Type="http://schemas.openxmlformats.org/officeDocument/2006/relationships/hyperlink" Target="file:///../../../Protege/html%20files/Data%20Transforms.html" TargetMode="External"/><Relationship Id="rId16" Type="http://schemas.openxmlformats.org/officeDocument/2006/relationships/hyperlink" Target="file:///../../../Protege/html%20files/Spectral%20Transforms.html" TargetMode="External"/><Relationship Id="rId17" Type="http://schemas.openxmlformats.org/officeDocument/2006/relationships/hyperlink" Target="file:///../../../Protege/html%20files/Fourier%20Transform.html" TargetMode="External"/><Relationship Id="rId18" Type="http://schemas.openxmlformats.org/officeDocument/2006/relationships/hyperlink" Target="file:///../../../Protege/html%20files/Wavelet%20Transform.html" TargetMode="External"/><Relationship Id="rId19" Type="http://schemas.openxmlformats.org/officeDocument/2006/relationships/hyperlink" Target="file:///../../../Protege/html%20files/Filtering.html" TargetMode="External"/><Relationship Id="rId20" Type="http://schemas.openxmlformats.org/officeDocument/2006/relationships/hyperlink" Target="file:///../../../Protege/html%20files/Skull%20Stripping.html" TargetMode="External"/><Relationship Id="rId21" Type="http://schemas.openxmlformats.org/officeDocument/2006/relationships/hyperlink" Target="file:///../../../Protege/html%20files/Inhomogeneity%20Correction.html" TargetMode="External"/><Relationship Id="rId22" Type="http://schemas.openxmlformats.org/officeDocument/2006/relationships/hyperlink" Target="file:///../../../Protege/html%20files/Inhomogeneity%20Correction.html" TargetMode="External"/><Relationship Id="rId2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Regulatory_Signaling%20network%20reconstruction.html" TargetMode="External"/><Relationship Id="rId3" Type="http://schemas.openxmlformats.org/officeDocument/2006/relationships/hyperlink" Target="file:///../../../Protege/html%20files/Sequence%20Annotation.html" TargetMode="External"/><Relationship Id="rId4" Type="http://schemas.openxmlformats.org/officeDocument/2006/relationships/hyperlink" Target="file:///../../../Protege/html%20files/Simulation.html" TargetMode="External"/><Relationship Id="rId5" Type="http://schemas.openxmlformats.org/officeDocument/2006/relationships/hyperlink" Target="file:///../../../Protege/html%20files/Software%20Engineering%20and%20Development%20Tools.html" TargetMode="External"/><Relationship Id="rId6" Type="http://schemas.openxmlformats.org/officeDocument/2006/relationships/hyperlink" Target="file:///../../../Protege/html%20files/Cross-LanguageWrapping.html" TargetMode="External"/><Relationship Id="rId7" Type="http://schemas.openxmlformats.org/officeDocument/2006/relationships/hyperlink" Target="file:///../../../Protege/html%20files/Cross-LanguageWrapping.html" TargetMode="External"/><Relationship Id="rId8" Type="http://schemas.openxmlformats.org/officeDocument/2006/relationships/hyperlink" Target="file:///../../../Protege/html%20files/Cross-LanguageWrapping.html#direct_instances" TargetMode="External"/><Relationship Id="rId9" Type="http://schemas.openxmlformats.org/officeDocument/2006/relationships/hyperlink" Target="file:///../../../Protege/html%20files/Cross-Platform%20Tools.html" TargetMode="External"/><Relationship Id="rId10" Type="http://schemas.openxmlformats.org/officeDocument/2006/relationships/hyperlink" Target="file:///../../../Protege/html%20files/Cross-Platform%20Tools.html#direct_instances" TargetMode="External"/><Relationship Id="rId11" Type="http://schemas.openxmlformats.org/officeDocument/2006/relationships/hyperlink" Target="file:///../../../Protege/html%20files/Integration.html" TargetMode="External"/><Relationship Id="rId12" Type="http://schemas.openxmlformats.org/officeDocument/2006/relationships/hyperlink" Target="file:///../../../Protege/html%20files/Graphical%20e.g.,%20HIVE%20Pipeline.html" TargetMode="External"/><Relationship Id="rId13" Type="http://schemas.openxmlformats.org/officeDocument/2006/relationships/hyperlink" Target="file:///../../../Protege/html%20files/Grid%20Computing%20Resources.html" TargetMode="External"/><Relationship Id="rId14" Type="http://schemas.openxmlformats.org/officeDocument/2006/relationships/hyperlink" Target="file:///../../../Protege/html%20files/Mappers%20e.g.,%20BrainGraph%20BrainMapper.html" TargetMode="External"/><Relationship Id="rId15" Type="http://schemas.openxmlformats.org/officeDocument/2006/relationships/hyperlink" Target="file:///../../../Protege/html%20files/Mappers%20e.g.,%20BrainGraph%20BrainMapper.html" TargetMode="External"/><Relationship Id="rId16" Type="http://schemas.openxmlformats.org/officeDocument/2006/relationships/hyperlink" Target="file:///../../../Protege/html%20files/Mappers%20e.g.,%20BrainGraph%20BrainMapper.html" TargetMode="External"/><Relationship Id="rId17" Type="http://schemas.openxmlformats.org/officeDocument/2006/relationships/hyperlink" Target="file:///../../../Protege/html%20files/Mappers%20e.g.,%20BrainGraph%20BrainMapper.html" TargetMode="External"/><Relationship Id="rId18" Type="http://schemas.openxmlformats.org/officeDocument/2006/relationships/hyperlink" Target="file:///../../../Protege/html%20files/Mappers%20e.g.,%20BrainGraph%20BrainMapper.html" TargetMode="External"/><Relationship Id="rId19" Type="http://schemas.openxmlformats.org/officeDocument/2006/relationships/hyperlink" Target="file:///../../../Protege/html%20files/Portals.html" TargetMode="External"/><Relationship Id="rId20" Type="http://schemas.openxmlformats.org/officeDocument/2006/relationships/hyperlink" Target="file:///../../../Protege/html%20files/Resource%20Integration%20Components.html" TargetMode="External"/><Relationship Id="rId21" Type="http://schemas.openxmlformats.org/officeDocument/2006/relationships/hyperlink" Target="file:///../../../Protege/html%20files/Testing%20Tools.html" TargetMode="External"/><Relationship Id="rId22" Type="http://schemas.openxmlformats.org/officeDocument/2006/relationships/hyperlink" Target="file:///../../../Protege/html%20files/Testing%20Tools.html#direct_instances" TargetMode="External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Statistical%20Analysis.html" TargetMode="External"/><Relationship Id="rId3" Type="http://schemas.openxmlformats.org/officeDocument/2006/relationships/hyperlink" Target="file:///../../../Protege/html%20files/E.g.,%20R.html" TargetMode="External"/><Relationship Id="rId4" Type="http://schemas.openxmlformats.org/officeDocument/2006/relationships/hyperlink" Target="file:///../../../Protege/html%20files/Structure-based%20protein%20classification.html" TargetMode="External"/><Relationship Id="rId5" Type="http://schemas.openxmlformats.org/officeDocument/2006/relationships/hyperlink" Target="file:///../../../Protege/html%20files/Toolkits.html" TargetMode="External"/><Relationship Id="rId6" Type="http://schemas.openxmlformats.org/officeDocument/2006/relationships/hyperlink" Target="file:///../../../Protege/html%20files/Toolkits.html#direct_instances" TargetMode="External"/><Relationship Id="rId7" Type="http://schemas.openxmlformats.org/officeDocument/2006/relationships/hyperlink" Target="file:///../../../Protege/html%20files/User%20and%20developer%20documentation.html" TargetMode="External"/><Relationship Id="rId8" Type="http://schemas.openxmlformats.org/officeDocument/2006/relationships/hyperlink" Target="file:///../../../Protege/html%20files/Visualization.html" TargetMode="External"/><Relationship Id="rId9" Type="http://schemas.openxmlformats.org/officeDocument/2006/relationships/hyperlink" Target="file:///../../../Protege/html%20files/Clinical%20Charts%20e.g.,%20Demographics.html" TargetMode="External"/><Relationship Id="rId10" Type="http://schemas.openxmlformats.org/officeDocument/2006/relationships/hyperlink" Target="file:///../../../Protege/html%20files/Graph%20Viewers.html" TargetMode="External"/><Relationship Id="rId11" Type="http://schemas.openxmlformats.org/officeDocument/2006/relationships/hyperlink" Target="file:///../../../Protege/html%20files/Hyperbolic%20Graphs.html" TargetMode="External"/><Relationship Id="rId12" Type="http://schemas.openxmlformats.org/officeDocument/2006/relationships/hyperlink" Target="file:///../../../Protege/html%20files/Hierarchical%20Trees.html" TargetMode="External"/><Relationship Id="rId13" Type="http://schemas.openxmlformats.org/officeDocument/2006/relationships/hyperlink" Target="file:///../../../Protege/html%20files/Imaging.html" TargetMode="Externa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%20Management.html" TargetMode="External"/><Relationship Id="rId2" Type="http://schemas.openxmlformats.org/officeDocument/2006/relationships/hyperlink" Target="file:///../../../Protege/html%20files/Data%20Storage.html" TargetMode="External"/><Relationship Id="rId3" Type="http://schemas.openxmlformats.org/officeDocument/2006/relationships/hyperlink" Target="file:///../../../Protege/html%20files/Data%20Transfer.html" TargetMode="External"/><Relationship Id="rId4" Type="http://schemas.openxmlformats.org/officeDocument/2006/relationships/hyperlink" Target="file:///../../../Protege/html%20files/Information%20retrieval,%20traversal%20and%20querying.html" TargetMode="External"/><Relationship Id="rId5" Type="http://schemas.openxmlformats.org/officeDocument/2006/relationships/hyperlink" Target="file:///../../../Protege/html%20files/Ontology%20Development%20and%20Management.html" TargetMode="External"/><Relationship Id="rId6" Type="http://schemas.openxmlformats.org/officeDocument/2006/relationships/hyperlink" Target="file:///../../../Protege/html%20files/Data%20Annotation.html" TargetMode="External"/><Relationship Id="rId7" Type="http://schemas.openxmlformats.org/officeDocument/2006/relationships/hyperlink" Target="file:///../../../Protege/html%20files/Ontology%20Development.html" TargetMode="External"/><Relationship Id="rId8" Type="http://schemas.openxmlformats.org/officeDocument/2006/relationships/hyperlink" Target="file:///../../../Protege/html%20files/Ontology%20Diff%20and%20Alignment.html" TargetMode="External"/><Relationship Id="rId9" Type="http://schemas.openxmlformats.org/officeDocument/2006/relationships/hyperlink" Target="file:///../../../Protege/html%20files/Ontology%20Visualization.html" TargetMode="External"/><Relationship Id="rId10" Type="http://schemas.openxmlformats.org/officeDocument/2006/relationships/hyperlink" Target="file:///../../../Protege/html%20files/Programmatic%20Access.html" TargetMode="External"/><Relationship Id="rId11" Type="http://schemas.openxmlformats.org/officeDocument/2006/relationships/hyperlink" Target="file:///../../../Protege/html%20files/Web%20Access.html" TargetMode="Externa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.html" TargetMode="External"/><Relationship Id="rId2" Type="http://schemas.openxmlformats.org/officeDocument/2006/relationships/hyperlink" Target="file:///../../../Protege/html%20files/Clinical%20Information.html" TargetMode="External"/><Relationship Id="rId3" Type="http://schemas.openxmlformats.org/officeDocument/2006/relationships/hyperlink" Target="file:///../../../Protege/html%20files/Aggregate%20Human%20Data.html" TargetMode="External"/><Relationship Id="rId4" Type="http://schemas.openxmlformats.org/officeDocument/2006/relationships/hyperlink" Target="file:///../../../Protege/html%20files/Individual%20Human%20Data.html" TargetMode="External"/><Relationship Id="rId5" Type="http://schemas.openxmlformats.org/officeDocument/2006/relationships/hyperlink" Target="file:///../../../Protege/html%20files/Nonhuman%20Data.html" TargetMode="External"/><Relationship Id="rId6" Type="http://schemas.openxmlformats.org/officeDocument/2006/relationships/hyperlink" Target="file:///../../../Protege/html%20files/Experimental%20Data.html" TargetMode="External"/><Relationship Id="rId7" Type="http://schemas.openxmlformats.org/officeDocument/2006/relationships/hyperlink" Target="file:///../../../Protege/html%20files/Gene-Phenotype%20Association%20DB.html" TargetMode="External"/><Relationship Id="rId8" Type="http://schemas.openxmlformats.org/officeDocument/2006/relationships/hyperlink" Target="file:///../../../Protege/html%20files/Medical%20Images%20DB.html" TargetMode="External"/><Relationship Id="rId9" Type="http://schemas.openxmlformats.org/officeDocument/2006/relationships/hyperlink" Target="file:///../../../Protege/html%20files/Molecular%20Interaction%20DB.html" TargetMode="External"/><Relationship Id="rId10" Type="http://schemas.openxmlformats.org/officeDocument/2006/relationships/hyperlink" Target="file:///../../../Protege/html%20files/Ontologies.html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issemination.html" TargetMode="External"/><Relationship Id="rId2" Type="http://schemas.openxmlformats.org/officeDocument/2006/relationships/hyperlink" Target="file:///../../../Protege/html%20files/Interactive%20Web-Based%20Tools.html" TargetMode="External"/><Relationship Id="rId3" Type="http://schemas.openxmlformats.org/officeDocument/2006/relationships/hyperlink" Target="file:///../../../Protege/html%20files/Publication.html" TargetMode="External"/><Relationship Id="rId4" Type="http://schemas.openxmlformats.org/officeDocument/2006/relationships/hyperlink" Target="file:///../../../Protege/html%20files/Training%20Courses.html" TargetMode="External"/><Relationship Id="rId5" Type="http://schemas.openxmlformats.org/officeDocument/2006/relationships/hyperlink" Target="file:///../../../Protege/html%20files/Web%20Postings.html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Data%20Management.html" TargetMode="External"/><Relationship Id="rId3" Type="http://schemas.openxmlformats.org/officeDocument/2006/relationships/hyperlink" Target="file:///../../../Protege/html%20files/Ontology%20Development%20and%20Management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ules for a Tool and Data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875-1F17-47A5-B822-09BD075D77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nomic &amp; Phenotypic Data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 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etwork character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e-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gulatory/Signaling network reconstru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quence Anno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imul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oftware Engineering and Development Tool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tatistical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Structure-based protein classific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oolk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(4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User and developer documen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isua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600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839-A113-43A3-886F-BE0AAB1D1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terms with ‘and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or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and/or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5B1-F8EF-4ECC-AD88-ED4543D88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ape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ttern Recog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nomic &amp; Phenotypic Data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mage 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2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tlas Gen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ortical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eg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work character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e-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ata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Spectral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ourier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avelet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Fil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kull Stri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homogeneit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Cor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F77-C7F5-41A5-A436-6644FDF6B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ulatory/Signaling network re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quence Anno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m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ftware Engineering and Development To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ross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anguageWr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1 inst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ross-Platform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teg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raphical e.g., HIVE Pip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rid Computing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Mapper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e.g.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rainGrap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rainM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or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source Integration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sting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733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2743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6CF-6564-4D48-AF78-9A95B982E3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ion is_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ftware Engineering and Development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665-3F40-458E-B840-0882CF4EF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tistical Analys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.g., 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ructure-based protein classific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olki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4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 and developer document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sualiz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inical Charts e.g., Demographic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aph Viewer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yperbolic Graph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ierarchical Tre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Sectional Vie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old Viewers 2D, 3D, 4D, 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2A8-CC47-4CB2-B827-885E48F71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Stor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ta Transf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formation retrieval, traversal and query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ntology Development and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ata Anno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ntology Develop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ntology Diff and Align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ntology Visualiz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rogrammatic Acc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447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597-46B8-434C-B3EC-4DDBB3356C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be afraid to write down what seems triv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is_a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tool is_a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ACB-16CE-407A-935A-CF94E290AA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H)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44C-94E8-4691-AB85-1A6077B0B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O-R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is_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 every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al-world examples, e.g. actual software tools, actual bodies of data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336-3FDD-429A-A3FD-9EC963265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kinds of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instanc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typ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ype, type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2B5-148F-4F84-ADAB-FAAE9C17C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nical Infor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gregate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dividual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on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xperimental Dat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ene-Phenotype Associa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edical Images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olecular Interac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ntolog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5627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3FA-FC77-4A76-86B1-6BFAA0138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on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in th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tologies is_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8D5-C1B6-4F53-B04A-4A37928B2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active Web-Based Too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bl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aining Cours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eb Posting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lication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3623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87D-4DC0-4D77-BBB3-125A286802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count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0AA-0862-44BA-AAC1-DFA85008D3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ntology Development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D86-D34E-44C9-910E-E30C64A01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1:06:30Z</dcterms:created>
  <dc:creator>phismith</dc:creator>
  <dc:description/>
  <dc:language>en-US</dc:language>
  <cp:lastModifiedBy>phismith</cp:lastModifiedBy>
  <dcterms:modified xsi:type="dcterms:W3CDTF">2006-03-25T21:39:23Z</dcterms:modified>
  <cp:revision>6</cp:revision>
  <dc:subject/>
  <dc:title>NCBC_SDIWG_Data-n-Software_Ontology</dc:title>
</cp:coreProperties>
</file>